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7299-2B4B-4F5E-842C-34C84898C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4161-BA3A-46D2-9E34-D9B27F85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E27A8-8A0E-4FAE-9BA7-2735202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EFAB0-7168-4195-BBBC-C40EC308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9D29A7-A711-4920-9DB1-6C57028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B93EF-42E0-4A70-80AC-71E0478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18A78-AB1D-4A60-9C81-F13CB46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146CB-528E-4FBA-B487-85F7554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A2EBD-5654-4B77-AAD3-60B6EAF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B66172-1E63-43C9-BC3B-E07929F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8FCEC-95BB-43FE-8A18-E79BD2DD1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FBEFB-E4D0-4FDF-B80B-2E343D5E3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1D0D-12BB-4F32-BEE2-81FF394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3C21-3BAA-4619-A602-4AC03A86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84A9-C399-4653-8B90-BDDE94C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6E0B-DB34-4D08-924C-70461D4B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55EE-5BBE-4AA8-8580-E150A46D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6518-04E9-4AB5-8E17-9E115B6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0E5B-D8FC-4ED7-B798-B064841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8AA69-DB45-4496-B093-37362E7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6C94-CA0E-4AB9-8A24-20D313A7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3DF7-ED16-4740-A004-9C06D466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1B7F-BEA5-47BD-B154-4C5B6B9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5FA9-EF28-46E0-9BA6-18ACA8634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A460-947A-437E-84F1-558A82E27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B4058-0283-4EE0-9D5D-86814ED5E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E949A-7306-4DD0-A0C8-70A5A9A1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52203-EE98-4BEF-A556-5188F13F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197AD-D147-44D1-84D7-DC7D86A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F050A-725E-469B-9612-D258CC89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C7244-C402-4E43-BFF4-1B68AF08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05522-B6A4-4D72-B3BC-82B3ED4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DE7FE-F729-42E8-8451-854C420A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8584A-539E-4646-A1EC-7876AC5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4A11-A17F-473F-BF6F-6593FF6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C6DF5-2EC3-49E0-A901-04179172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3325D-688F-4F70-BD9F-53AFBAD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F9F6F-55ED-42F6-9DB5-616EAAFBF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5B21C-7CD6-4C12-97D2-EB2556160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EE94A-E88F-4D25-BBE1-60A8459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684AA-13A1-49A0-ABB3-CC9600D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76AEF-8160-4A03-B659-A96E32E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C39B1-33D6-459D-8D68-97F4B489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66E88-734B-479A-AAC1-BD592592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97DFC-C3FF-4859-85D2-6C3193A0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FC73-88DC-4DE7-A644-B2F79F4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E0E3E-9641-4F6A-8153-4F708F36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A2BE5-C887-42F9-A6AF-E74AB760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DAD44-0C07-4194-B895-7D794CC6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BC872-0D24-4F75-BAE7-FA5798C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AA798-992C-4C78-BAB5-5D210CDE6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AAF28-81B0-4975-B6EB-6B8BBC498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A4708-4FDE-43A1-BA06-0FCA774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801D6-7A44-4FDE-B02F-BDA679A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E57C7-33A8-470E-893F-098D633C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6390-9F15-488E-87E0-25BE6DCD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3215-B5EB-47A2-8EDD-B1AA827A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7D74F-D83F-46D8-95DA-892A578E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844F3-0A49-49B6-B301-E0EF972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43A9-44FC-4E00-9949-AE2EAF3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CA201-1B3E-40EE-A5A7-D7E745A9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6F86-664A-4547-BC7A-88D88B3D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1183-A2B9-4CBB-B515-06E8516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C87B5-2890-4CD6-9088-87643D672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4227B-AF92-4AA0-9BF8-19BE225C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1B4E8-DDBC-4B6C-B25D-D80F718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EA05C-41B2-4712-BED6-2621B8DD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53DD0-F4D9-4050-AB74-D14D6AF7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D6D34-B818-46E2-9BAA-24335C5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9696D-5288-4C19-9087-E0FEFB5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1586A-C422-44CC-9A24-C67627E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D894F-954D-48F5-B604-26E8316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46BDA-0318-49F7-BB52-E690B60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4F05-B0C2-4788-AF60-A8475B2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9688F-3670-42AF-ACF6-065055D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B1AA-A11C-4A6C-B8CE-5B0EE4FD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62230-5DDA-4BC1-A526-CFAA233F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9B072-1962-40B6-BD29-2A0D7ECF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50E6D-2BCD-48B3-B58C-C34F5F6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E02C-D7CA-44D7-9C11-A1FF143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77C9F-85A2-46CA-A07E-52DC5669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0F038-343A-4331-A5A3-5D628DF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3316-534B-4CB4-A485-CCA9C200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E89AE-311E-46EC-9C13-A08873D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E9910-F595-4E28-B7A6-2BE13CD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19084-0098-4ECB-AE97-FBCB42B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9CDA9-C899-46C7-BA7A-C903CFA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29DD4-4DAC-46D0-886C-C080932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896B7-B1EF-4569-AAE1-3AE7ED38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A4A55-EA21-4F6F-9799-034EDB60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4A881-446C-4B9C-B2A7-5062AFE2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BE6AA-42F6-4DA7-B563-6FD346A9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508A2-3CF4-40C7-B9AE-A4C83D1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1749-A23B-4917-87CF-609A066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71807-888D-4890-A658-50E4497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15BA4-8533-44B1-BB5D-93135034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EA1AC-06FB-483D-9CAF-63FEF01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8FB2B-5C20-4E33-B318-766905E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334E9-E95D-4C5F-9A3E-4631195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85207-B9D6-477A-9E02-00CCAEA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D8B23-7E5A-427D-B600-83B3458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2174-D0B6-434F-9A8C-6835F1C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3D469-33C0-40DB-B488-BB510AC6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57724-2A92-43F6-9D22-48DC8B06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E7A4D-6318-4FC6-A8E0-5517643E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105DE-95CE-4426-8C2D-FC0A9678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A61AF-DF01-4FB0-BB6E-87C593B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ED358-264A-467C-95EE-9974A1DC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AD036-75AE-4A78-AD02-0D13058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4DB2C-FE5D-4450-9FDE-B20F790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C1D85-960E-4BEB-BDFC-8708DE3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6D17-9D9B-4DD0-B23D-70354A9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C6ACF-DDAE-4910-9C14-B81B6B1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01063-321A-4C00-AE39-26C448F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30A83-F07F-4DA7-B657-56B9DA38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C743E-B902-4037-8B19-B7A9F5C4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F0A7A-6373-4B3B-8DF4-15A373FF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E8816-427E-4E52-8B52-64FE90A1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5C83D-2E43-458C-9347-23B2DDC8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1B391-6585-4F06-9BBC-15453ED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D6F43-34B3-4E9B-B3F2-A9B8CE8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60567-62FD-41DD-B5CA-3AB332C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FBA3A-9F73-43A1-AF83-754BD9D5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181F8-14FA-4352-98D3-193A177B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742E3-85E4-4BDC-81F2-502D68A4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8970A-F749-482C-AC1E-FE98B32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01F24-6BA9-4574-97CC-DB7ED7F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6B1F6-9E5A-4B0C-B74C-BE4E621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07058-EE14-4FCA-A63E-1C281B0D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0FA49-5F6B-4BBF-AD84-25E218BF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11B42-30C0-4EA6-88E0-5638E8C8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45CE7-2484-41F1-B03D-3BA5D32C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59123-2A91-4AA4-8E44-68FC535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DA88C-AA8C-47DC-AB4C-A298B3B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8BC03-AD86-4DE1-81B4-31BCA92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D5F70-5F31-4126-ACFF-E1E0E5E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419EC-2CB2-4D9F-B50C-3481CD5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97ECA-AD25-4C10-AB54-AF8D389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CB292-0771-445C-9E3B-53BEF3D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9A521-4445-4140-8DB5-8A36A06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909D8-8411-4D12-B663-5936935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E56BD-D705-451F-8023-D944BF3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BFFCB-41AD-451F-9238-150421CC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6BB9C-C0D1-4267-803C-1DAD85B5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1833E-ACB0-4C2E-8D49-625343C1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3AB7E-475E-40D1-BE7D-6972CAB6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47DA9-6208-4745-B9C1-BCC0A0CF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21794-8FCF-4906-BC6A-A1D64C3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CE263-FB48-49D6-9760-9A4F0F1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91933-4596-4316-991D-95402B1E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1B87-EE54-4557-B844-466B619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14B87-6841-4EAA-9D68-69F67D2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19131-A708-4F64-B462-F858A84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FC3E3-1752-461E-9397-893C01C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92B1D-5548-4105-BDDC-21B544F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7B380-078B-4E42-85DF-C67B2594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5533-B024-4163-8E07-56D4A853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57720-E974-4A8B-A2B7-BBC00971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6112D-07AE-4C68-88DD-48CF2BC7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E8528-E089-410F-8DC9-DBFE40A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EC021-BA7A-42CE-8B84-83E412F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4434C-E07A-4C85-8966-8BF70F3E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AEA8E-F5F3-4D42-BBAD-722AE05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0A7F2-A8EF-418F-A00A-CFD7676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8C7DD-568F-4504-9DAB-3DC4329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10E16-7EF6-423C-8A4A-160F725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22409-E892-4834-91D2-251EDCA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30895-8A1D-438F-AC0F-A0A40CAC8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FDE3D-C6DC-413C-BAA1-EF4B7E5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536B9-D107-45A4-AFB7-5F9B9DCC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F99E3-E819-4D55-B9E7-1040C658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B7F98-D07E-4394-B3EE-EB964764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70E63-67EF-40E4-A4CE-5FAF5F6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99762-F0BA-404D-86B6-C43E21D3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ADCB7-5825-47CF-B3B5-247986BB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CCD4C-C944-4688-8E55-AE42845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F4A3E-D6DB-475B-8E63-0E5F061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9C6EB-299D-4D2E-A84D-78D7D78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3F49B-A92D-4440-8FAE-A47A62F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35EAA-1E03-4913-B0F7-4A91BFA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09A3C-344E-441E-BAA6-F6476B1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B72E3-D1CF-4243-9478-F5F96D49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E7A26-47A0-42C0-BDF3-3508B130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67013-7A64-4A0E-8A28-14EA4680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207DB-DC1D-4D3D-8847-67EFF39C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ED30E-7F85-4E8C-88A2-5300178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D8974-9F93-483D-B01C-5B7FD234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F9540-BC93-4E09-A986-A441A42A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B5895-4967-41AF-A594-05948F9F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60890-38BA-4001-9107-9D883C13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42FF7-5AAC-4861-BA94-993B60D4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5DD0A-050D-4E43-82F5-B5D1041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C42D3-D337-402A-9DEB-2E7AB0C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5C907-076C-4A62-8901-063F75B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9006E-F056-489D-8381-05952B63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E6118-4871-46A5-A04B-E48426BE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0869F-B00C-420F-B2B1-790D1F5D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2526E-3259-4EBC-BC78-21A15B7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B35E1-9E26-49DA-B202-2A68D34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A55B1-3D89-43F3-BC0F-7379B84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FBE41-B252-4146-8A77-B8D2791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3333C-3683-4E54-B7B6-A7B89BDD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72B4D-B88F-462D-9D38-C968931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5C550-E15A-4504-BC72-A3443569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E8E95-8FA3-4CED-9947-16F01DD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18D18-EE6E-4B44-8353-C9F6AC2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B5014-2A04-4731-BA7F-862B885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30977-4FDA-4D14-9ED5-713E352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C252C-F098-4DE4-AEDA-141A2A79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5E912-31D6-46D3-ADDE-0DC5383B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2468C-0CA8-4AF2-B698-CF90D0AC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618D-E6EF-4AD0-A836-96F7EF7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FF80C-A368-49C5-ABDA-A0BEFEE7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CF96A-EF0A-4402-AEDF-C7630FDA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B8CBC-1FF2-4E79-AEF7-2466432A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A00BC-9F55-4D3A-92A4-950D6EC0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D5460-C4D8-43C1-8F30-6FFF27B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A1616-5E4E-41B8-BE1B-77E8EB6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8BE0E-B694-4080-AECB-34086485C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2907-036A-4E0C-B49D-FB9509BFC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0F4E-73D6-4F28-8BA7-F01D005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7505-774E-4723-AADF-9E325EC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8816-526C-4329-BBD2-872DA98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841A-3BD0-442A-A802-0BB78BD7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008C-18A8-4370-B3AB-63A2DEB2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757C-96F0-4DF7-BCD6-E21E33FF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86C6-A8D6-40C6-8061-29EBE397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C41C-D779-4D1C-B380-F28FE36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F175-B37B-4C3F-92FA-00F1C8B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772E-0D44-4B9E-92D2-A0C3A77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2446-E58B-4267-BCBE-610C8B4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D786-8739-4F3A-821E-EA4FA6499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37721-8642-49FD-8B33-3ED3EBE65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714B-0493-43B5-9F8E-04938AA6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633E4-A317-4461-92DA-8E0887EE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2A4E5-11A0-45DB-9A67-39037034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BACFC-21D3-4D02-A9D5-986E83F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D1908-75DD-4CA9-81BE-0F2875D6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189A7-FAE8-442D-9C62-4B8EC428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DFAAD-093C-4C45-B6E9-494FAD2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A3E9A-1BD1-4ADD-A5F3-19AF651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75D57-7309-4233-B660-B07F3E2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9DF20-31FF-4485-9E60-9605FF2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16DB4-A607-4B20-A99D-23A51A9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EFAA-1F97-4F7A-82BC-8BEFD1A9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DED9E-9753-41CC-BE1A-C0DEE57B5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ACD11-4A8C-4DF7-9511-E04FBD5E5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37700-092D-46A8-97F5-E2DE42AB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42CDF-5F2B-44AA-AA85-3B85547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8AD64-C846-4F66-A1C9-E045D37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CE200-3206-4F10-800C-3EDA03E1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7E31D-E6BC-43EA-A7EF-F88392B9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EFDC6-34CB-4433-93BA-DE3002A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DB03A7-17CF-4A62-B9C2-50D1953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D027E-D768-4708-858F-8E89588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F7AF-132D-46B3-B5D6-5C91759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3B02B-0A52-43C5-B569-053E7A0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3FEE5-5731-4D1C-B65E-5CE0FA5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94967-15F3-4F8D-AA31-7E0CC508F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D412-B108-4C96-93EC-814D8CA58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5EDC-5DF1-42B2-8604-048DB8C0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0DB9-2E88-4810-A8C4-45B6FF2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1743-B95B-426A-B2E7-9AAC219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7797-0D59-415F-B5AD-2C5505A7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04B36-39F1-4193-9EB1-E2E218C2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7CCD-3E78-4003-A38F-4A034516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9FC5-A8D5-43CF-A5F7-B76B17DD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B0D6-0A91-4FD5-9323-17295FB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66BA-9BED-4A52-8AE3-BF8C8D9C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B5EA-3239-4A97-856D-A677ACCB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39CD-8FB3-4A81-A124-A291F1A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5A33-493F-4BAA-8D6B-4F3953186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F425E-8151-44B0-AB35-B3F09B019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A3AF7-19B2-43DE-9913-46681DE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0CEF8-BB7F-4681-A41B-7D3DC19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EF0C4-61DA-4D45-B52D-F792758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66784-E86A-468C-B9D5-CF58CB8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5999-0632-4342-8B5E-E31BDE87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ABB66-5435-4C9A-BF54-F5FD29DB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10FAF-329F-4B2C-84AD-E4CAEB5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D79AB-FC8D-47F8-8235-16F6840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8C85A-60A2-4CEB-A0A3-67A094F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02A21-314E-4600-BB1F-57443BE9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91FE3-A94B-4F5D-838A-D4FA6A3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72C05-46BC-470B-884C-16A9F1D58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7FDF0-0DD1-45C1-AD00-F2BC01DC9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57210-92FD-41F2-A266-38F67BB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C588B-6390-4C0D-9F69-132F9F0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5DA-1460-42A5-AA07-59AC104953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43A7-F57E-419B-B2FB-5602C39161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816-E2AC-4C9E-B100-430AEE73C22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E54-061E-4E5B-A043-2CEE40F1A7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7C4C-D230-4658-8C60-A156C1FEC5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4976-0754-475C-90CA-23178AF99C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862F-59FF-4B92-AD41-519D16F478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B2CC-9D3C-44EC-9A4E-325E70FAE6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407-CE5A-418E-8C7E-6CF1F0CB9D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828D-7F85-45C3-B04B-26D00388F4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B2E-1430-4EB2-993A-1B9E80FF84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F95-D77C-40E9-90B7-0FA7A58EE7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D0D-A362-4B69-A983-8C8F300C87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CB55-4AA6-49EE-94E0-42FDA9B690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733-1F9C-474F-B4C1-41A1AADA52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090-912B-4DA6-982F-B59FD0C28F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6FF-D74E-4EF7-AAF4-3F9BDD9CD8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98E-C66A-4332-9FE5-66D87DAD11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F389-D494-4721-86F3-49A1DF234D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AEB4-3D34-4AD1-B10B-9B2137827D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8507-7D50-4ADE-AEBF-88C7DCEB93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98AD-C706-4968-8134-8BF457F4AA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7C4-ECB1-4C60-B717-A6D0E09117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29C-17C8-4222-BFC8-A3393ADEE5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200240" y="284148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13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1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09" name=""/>
          <p:cNvGraphicFramePr/>
          <p:nvPr/>
        </p:nvGraphicFramePr>
        <p:xfrm>
          <a:off x="2581200" y="1603440"/>
          <a:ext cx="3071880" cy="26431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</a:tblGrid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10" name="组合 60"/>
          <p:cNvGrpSpPr/>
          <p:nvPr/>
        </p:nvGrpSpPr>
        <p:grpSpPr>
          <a:xfrm>
            <a:off x="2724120" y="1649520"/>
            <a:ext cx="2857680" cy="2571480"/>
            <a:chOff x="2724120" y="1649520"/>
            <a:chExt cx="2857680" cy="2571480"/>
          </a:xfrm>
        </p:grpSpPr>
        <p:pic>
          <p:nvPicPr>
            <p:cNvPr id="1011" name="Picture 2" descr="D:\我的文档-桌面-收藏夹\桌面\ac6eddc451da81cbd2215ab15066d01608243183.jpg"/>
            <p:cNvPicPr/>
            <p:nvPr/>
          </p:nvPicPr>
          <p:blipFill>
            <a:blip r:embed="rId8"/>
            <a:srcRect l="25654" t="64324" r="60611" b="20990"/>
            <a:stretch/>
          </p:blipFill>
          <p:spPr>
            <a:xfrm>
              <a:off x="272412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2" descr="D:\我的文档-桌面-收藏夹\桌面\ac6eddc451da81cbd2215ab15066d01608243183.jpg"/>
            <p:cNvPicPr/>
            <p:nvPr/>
          </p:nvPicPr>
          <p:blipFill>
            <a:blip r:embed="rId9"/>
            <a:srcRect l="25654" t="64324" r="60611" b="20990"/>
            <a:stretch/>
          </p:blipFill>
          <p:spPr>
            <a:xfrm>
              <a:off x="34632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2" descr="D:\我的文档-桌面-收藏夹\桌面\ac6eddc451da81cbd2215ab15066d01608243183.jpg"/>
            <p:cNvPicPr/>
            <p:nvPr/>
          </p:nvPicPr>
          <p:blipFill>
            <a:blip r:embed="rId10"/>
            <a:srcRect l="25654" t="64324" r="60611" b="20990"/>
            <a:stretch/>
          </p:blipFill>
          <p:spPr>
            <a:xfrm>
              <a:off x="42516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2" descr="D:\我的文档-桌面-收藏夹\桌面\ac6eddc451da81cbd2215ab15066d01608243183.jpg"/>
            <p:cNvPicPr/>
            <p:nvPr/>
          </p:nvPicPr>
          <p:blipFill>
            <a:blip r:embed="rId11"/>
            <a:srcRect l="25654" t="64324" r="60611" b="20990"/>
            <a:stretch/>
          </p:blipFill>
          <p:spPr>
            <a:xfrm>
              <a:off x="50400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2" descr="D:\我的文档-桌面-收藏夹\桌面\ac6eddc451da81cbd2215ab15066d01608243183.jpg"/>
            <p:cNvPicPr/>
            <p:nvPr/>
          </p:nvPicPr>
          <p:blipFill>
            <a:blip r:embed="rId12"/>
            <a:srcRect l="25654" t="64324" r="60611" b="20990"/>
            <a:stretch/>
          </p:blipFill>
          <p:spPr>
            <a:xfrm>
              <a:off x="272412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2" descr="D:\我的文档-桌面-收藏夹\桌面\ac6eddc451da81cbd2215ab15066d01608243183.jpg"/>
            <p:cNvPicPr/>
            <p:nvPr/>
          </p:nvPicPr>
          <p:blipFill>
            <a:blip r:embed="rId13"/>
            <a:srcRect l="25654" t="64324" r="60611" b="20990"/>
            <a:stretch/>
          </p:blipFill>
          <p:spPr>
            <a:xfrm>
              <a:off x="34632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2" descr="D:\我的文档-桌面-收藏夹\桌面\ac6eddc451da81cbd2215ab15066d01608243183.jpg"/>
            <p:cNvPicPr/>
            <p:nvPr/>
          </p:nvPicPr>
          <p:blipFill>
            <a:blip r:embed="rId14"/>
            <a:srcRect l="25654" t="64324" r="60611" b="20990"/>
            <a:stretch/>
          </p:blipFill>
          <p:spPr>
            <a:xfrm>
              <a:off x="42516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2" descr="D:\我的文档-桌面-收藏夹\桌面\ac6eddc451da81cbd2215ab15066d01608243183.jpg"/>
            <p:cNvPicPr/>
            <p:nvPr/>
          </p:nvPicPr>
          <p:blipFill>
            <a:blip r:embed="rId15"/>
            <a:srcRect l="25654" t="64324" r="60611" b="20990"/>
            <a:stretch/>
          </p:blipFill>
          <p:spPr>
            <a:xfrm>
              <a:off x="50400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Picture 2" descr="D:\我的文档-桌面-收藏夹\桌面\ac6eddc451da81cbd2215ab15066d01608243183.jpg"/>
            <p:cNvPicPr/>
            <p:nvPr/>
          </p:nvPicPr>
          <p:blipFill>
            <a:blip r:embed="rId16"/>
            <a:srcRect l="25654" t="64324" r="60611" b="20990"/>
            <a:stretch/>
          </p:blipFill>
          <p:spPr>
            <a:xfrm>
              <a:off x="272412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2" descr="D:\我的文档-桌面-收藏夹\桌面\ac6eddc451da81cbd2215ab15066d01608243183.jpg"/>
            <p:cNvPicPr/>
            <p:nvPr/>
          </p:nvPicPr>
          <p:blipFill>
            <a:blip r:embed="rId17"/>
            <a:srcRect l="25654" t="64324" r="60611" b="20990"/>
            <a:stretch/>
          </p:blipFill>
          <p:spPr>
            <a:xfrm>
              <a:off x="346320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2" descr="D:\我的文档-桌面-收藏夹\桌面\ac6eddc451da81cbd2215ab15066d01608243183.jpg"/>
            <p:cNvPicPr/>
            <p:nvPr/>
          </p:nvPicPr>
          <p:blipFill>
            <a:blip r:embed="rId18"/>
            <a:srcRect l="25654" t="64324" r="60611" b="20990"/>
            <a:stretch/>
          </p:blipFill>
          <p:spPr>
            <a:xfrm>
              <a:off x="4251600" y="29419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2" descr="D:\我的文档-桌面-收藏夹\桌面\ac6eddc451da81cbd2215ab15066d01608243183.jpg"/>
            <p:cNvPicPr/>
            <p:nvPr/>
          </p:nvPicPr>
          <p:blipFill>
            <a:blip r:embed="rId19"/>
            <a:srcRect l="25654" t="64324" r="60611" b="20990"/>
            <a:stretch/>
          </p:blipFill>
          <p:spPr>
            <a:xfrm>
              <a:off x="504000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2" descr="D:\我的文档-桌面-收藏夹\桌面\ac6eddc451da81cbd2215ab15066d01608243183.jpg"/>
            <p:cNvPicPr/>
            <p:nvPr/>
          </p:nvPicPr>
          <p:blipFill>
            <a:blip r:embed="rId20"/>
            <a:srcRect l="25654" t="64324" r="60611" b="20990"/>
            <a:stretch/>
          </p:blipFill>
          <p:spPr>
            <a:xfrm>
              <a:off x="272412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2" descr="D:\我的文档-桌面-收藏夹\桌面\ac6eddc451da81cbd2215ab15066d01608243183.jpg"/>
            <p:cNvPicPr/>
            <p:nvPr/>
          </p:nvPicPr>
          <p:blipFill>
            <a:blip r:embed="rId21"/>
            <a:srcRect l="25654" t="64324" r="60611" b="20990"/>
            <a:stretch/>
          </p:blipFill>
          <p:spPr>
            <a:xfrm>
              <a:off x="34632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2" descr="D:\我的文档-桌面-收藏夹\桌面\ac6eddc451da81cbd2215ab15066d01608243183.jpg"/>
            <p:cNvPicPr/>
            <p:nvPr/>
          </p:nvPicPr>
          <p:blipFill>
            <a:blip r:embed="rId22"/>
            <a:srcRect l="25654" t="64324" r="60611" b="20990"/>
            <a:stretch/>
          </p:blipFill>
          <p:spPr>
            <a:xfrm>
              <a:off x="42516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2" descr="D:\我的文档-桌面-收藏夹\桌面\ac6eddc451da81cbd2215ab15066d01608243183.jpg"/>
            <p:cNvPicPr/>
            <p:nvPr/>
          </p:nvPicPr>
          <p:blipFill>
            <a:blip r:embed="rId23"/>
            <a:srcRect l="25654" t="64324" r="60611" b="20990"/>
            <a:stretch/>
          </p:blipFill>
          <p:spPr>
            <a:xfrm>
              <a:off x="50400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19"/>
          <p:cNvGrpSpPr/>
          <p:nvPr/>
        </p:nvGrpSpPr>
        <p:grpSpPr>
          <a:xfrm>
            <a:off x="1704960" y="4511520"/>
            <a:ext cx="1714680" cy="785880"/>
            <a:chOff x="1704960" y="4511520"/>
            <a:chExt cx="1714680" cy="785880"/>
          </a:xfrm>
        </p:grpSpPr>
        <p:sp>
          <p:nvSpPr>
            <p:cNvPr id="1028" name="TextBox 20"/>
            <p:cNvSpPr/>
            <p:nvPr/>
          </p:nvSpPr>
          <p:spPr>
            <a:xfrm>
              <a:off x="199044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21"/>
            <p:cNvSpPr/>
            <p:nvPr/>
          </p:nvSpPr>
          <p:spPr>
            <a:xfrm>
              <a:off x="1704960" y="465444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直接箭头连接符 22"/>
            <p:cNvCxnSpPr/>
            <p:nvPr/>
          </p:nvCxnSpPr>
          <p:spPr>
            <a:xfrm>
              <a:off x="199008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1" name="矩形 23"/>
            <p:cNvSpPr/>
            <p:nvPr/>
          </p:nvSpPr>
          <p:spPr>
            <a:xfrm>
              <a:off x="263376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24"/>
          <p:cNvGrpSpPr/>
          <p:nvPr/>
        </p:nvGrpSpPr>
        <p:grpSpPr>
          <a:xfrm>
            <a:off x="3490560" y="4511520"/>
            <a:ext cx="1429200" cy="785880"/>
            <a:chOff x="3490560" y="4511520"/>
            <a:chExt cx="1429200" cy="785880"/>
          </a:xfrm>
        </p:grpSpPr>
        <p:sp>
          <p:nvSpPr>
            <p:cNvPr id="1033" name="TextBox 25"/>
            <p:cNvSpPr/>
            <p:nvPr/>
          </p:nvSpPr>
          <p:spPr>
            <a:xfrm>
              <a:off x="349092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4" name="直接箭头连接符 26"/>
            <p:cNvCxnSpPr/>
            <p:nvPr/>
          </p:nvCxnSpPr>
          <p:spPr>
            <a:xfrm>
              <a:off x="349056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5" name="矩形 27"/>
            <p:cNvSpPr/>
            <p:nvPr/>
          </p:nvSpPr>
          <p:spPr>
            <a:xfrm>
              <a:off x="413388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8"/>
          <p:cNvGrpSpPr/>
          <p:nvPr/>
        </p:nvGrpSpPr>
        <p:grpSpPr>
          <a:xfrm>
            <a:off x="4990680" y="4511520"/>
            <a:ext cx="1429200" cy="785880"/>
            <a:chOff x="4990680" y="4511520"/>
            <a:chExt cx="1429200" cy="785880"/>
          </a:xfrm>
        </p:grpSpPr>
        <p:sp>
          <p:nvSpPr>
            <p:cNvPr id="1037" name="TextBox 29"/>
            <p:cNvSpPr/>
            <p:nvPr/>
          </p:nvSpPr>
          <p:spPr>
            <a:xfrm>
              <a:off x="499104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直接箭头连接符 30"/>
            <p:cNvCxnSpPr/>
            <p:nvPr/>
          </p:nvCxnSpPr>
          <p:spPr>
            <a:xfrm>
              <a:off x="499068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9" name="矩形 31"/>
            <p:cNvSpPr/>
            <p:nvPr/>
          </p:nvSpPr>
          <p:spPr>
            <a:xfrm>
              <a:off x="563400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Rectangle 51"/>
          <p:cNvSpPr/>
          <p:nvPr/>
        </p:nvSpPr>
        <p:spPr>
          <a:xfrm>
            <a:off x="284796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427680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577692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八边形 25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29"/>
          <p:cNvSpPr/>
          <p:nvPr/>
        </p:nvSpPr>
        <p:spPr>
          <a:xfrm>
            <a:off x="1384200" y="868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下面一共有多少个包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-58680" y="96840"/>
            <a:ext cx="3481200" cy="525600"/>
            <a:chOff x="-58680" y="96840"/>
            <a:chExt cx="3481200" cy="525600"/>
          </a:xfrm>
        </p:grpSpPr>
        <p:pic>
          <p:nvPicPr>
            <p:cNvPr id="104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04760" y="96840"/>
              <a:ext cx="3317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-58680" y="191880"/>
              <a:ext cx="462240" cy="273960"/>
              <a:chOff x="-58680" y="191880"/>
              <a:chExt cx="462240" cy="273960"/>
            </a:xfrm>
          </p:grpSpPr>
          <p:sp>
            <p:nvSpPr>
              <p:cNvPr id="1048" name="椭圆 13"/>
              <p:cNvSpPr/>
              <p:nvPr/>
            </p:nvSpPr>
            <p:spPr>
              <a:xfrm rot="16200000">
                <a:off x="190440" y="35460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840" y="3117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17"/>
              <p:cNvSpPr/>
              <p:nvPr/>
            </p:nvSpPr>
            <p:spPr>
              <a:xfrm rot="16200000">
                <a:off x="190440" y="22608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840" y="2055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8680" y="32724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8680" y="30060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8680" y="21852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8680" y="19188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6" name="组合 70"/>
          <p:cNvGrpSpPr/>
          <p:nvPr/>
        </p:nvGrpSpPr>
        <p:grpSpPr>
          <a:xfrm>
            <a:off x="1209600" y="1206360"/>
            <a:ext cx="6000840" cy="2357640"/>
            <a:chOff x="1209600" y="1206360"/>
            <a:chExt cx="6000840" cy="2357640"/>
          </a:xfrm>
        </p:grpSpPr>
        <p:grpSp>
          <p:nvGrpSpPr>
            <p:cNvPr id="1057" name="组合 40"/>
            <p:cNvGrpSpPr/>
            <p:nvPr/>
          </p:nvGrpSpPr>
          <p:grpSpPr>
            <a:xfrm>
              <a:off x="1209600" y="1206360"/>
              <a:ext cx="6000840" cy="2357640"/>
              <a:chOff x="1209600" y="1206360"/>
              <a:chExt cx="6000840" cy="2357640"/>
            </a:xfrm>
          </p:grpSpPr>
          <p:sp>
            <p:nvSpPr>
              <p:cNvPr id="1058" name="圆角矩形 41"/>
              <p:cNvSpPr/>
              <p:nvPr/>
            </p:nvSpPr>
            <p:spPr>
              <a:xfrm>
                <a:off x="3209400" y="1277640"/>
                <a:ext cx="2214720" cy="2286360"/>
              </a:xfrm>
              <a:custGeom>
                <a:avLst/>
                <a:gdLst>
                  <a:gd name="textAreaLeft" fmla="*/ 108000 w 2214720"/>
                  <a:gd name="textAreaRight" fmla="*/ 2106720 w 2214720"/>
                  <a:gd name="textAreaTop" fmla="*/ 108000 h 2286360"/>
                  <a:gd name="textAreaBottom" fmla="*/ 2178360 h 2286360"/>
                </a:gdLst>
                <a:ahLst/>
                <a:rect l="textAreaLeft" t="textAreaTop" r="textAreaRight" b="textAreaBottom"/>
                <a:pathLst>
                  <a:path w="21600" h="22299">
                    <a:moveTo>
                      <a:pt x="3600" y="0"/>
                    </a:moveTo>
                    <a:arcTo wR="3600" hR="3600" stAng="16200000" swAng="-5400000"/>
                    <a:lnTo>
                      <a:pt x="0" y="18699"/>
                    </a:lnTo>
                    <a:arcTo wR="3600" hR="3600" stAng="10800000" swAng="-5400000"/>
                    <a:lnTo>
                      <a:pt x="18000" y="222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43"/>
              <p:cNvSpPr/>
              <p:nvPr/>
            </p:nvSpPr>
            <p:spPr>
              <a:xfrm>
                <a:off x="1209600" y="1277640"/>
                <a:ext cx="1285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×4=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44"/>
              <p:cNvSpPr/>
              <p:nvPr/>
            </p:nvSpPr>
            <p:spPr>
              <a:xfrm>
                <a:off x="1209600" y="184932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×4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45"/>
              <p:cNvSpPr/>
              <p:nvPr/>
            </p:nvSpPr>
            <p:spPr>
              <a:xfrm>
                <a:off x="3209760" y="127764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一四得四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46"/>
              <p:cNvSpPr/>
              <p:nvPr/>
            </p:nvSpPr>
            <p:spPr>
              <a:xfrm>
                <a:off x="3209760" y="1849320"/>
                <a:ext cx="214308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二四（      ）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47"/>
              <p:cNvSpPr/>
              <p:nvPr/>
            </p:nvSpPr>
            <p:spPr>
              <a:xfrm>
                <a:off x="5567400" y="1277640"/>
                <a:ext cx="1285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×1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48"/>
              <p:cNvSpPr/>
              <p:nvPr/>
            </p:nvSpPr>
            <p:spPr>
              <a:xfrm>
                <a:off x="5567400" y="192060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×2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矩形 49"/>
              <p:cNvSpPr/>
              <p:nvPr/>
            </p:nvSpPr>
            <p:spPr>
              <a:xfrm>
                <a:off x="6496200" y="1849320"/>
                <a:ext cx="714240" cy="57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矩形 50"/>
              <p:cNvSpPr/>
              <p:nvPr/>
            </p:nvSpPr>
            <p:spPr>
              <a:xfrm>
                <a:off x="6496200" y="1206360"/>
                <a:ext cx="714240" cy="57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矩形 63"/>
            <p:cNvSpPr/>
            <p:nvPr/>
          </p:nvSpPr>
          <p:spPr>
            <a:xfrm>
              <a:off x="2137680" y="1777680"/>
              <a:ext cx="78588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Rectangle 51"/>
          <p:cNvSpPr/>
          <p:nvPr/>
        </p:nvSpPr>
        <p:spPr>
          <a:xfrm>
            <a:off x="2208240" y="30639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72"/>
          <p:cNvGrpSpPr/>
          <p:nvPr/>
        </p:nvGrpSpPr>
        <p:grpSpPr>
          <a:xfrm>
            <a:off x="1209600" y="2371680"/>
            <a:ext cx="6000840" cy="692280"/>
            <a:chOff x="1209600" y="2371680"/>
            <a:chExt cx="6000840" cy="692280"/>
          </a:xfrm>
        </p:grpSpPr>
        <p:grpSp>
          <p:nvGrpSpPr>
            <p:cNvPr id="1070" name="组合 71"/>
            <p:cNvGrpSpPr/>
            <p:nvPr/>
          </p:nvGrpSpPr>
          <p:grpSpPr>
            <a:xfrm>
              <a:off x="1209600" y="2420640"/>
              <a:ext cx="1714320" cy="594000"/>
              <a:chOff x="1209600" y="2420640"/>
              <a:chExt cx="1714320" cy="594000"/>
            </a:xfrm>
          </p:grpSpPr>
          <p:sp>
            <p:nvSpPr>
              <p:cNvPr id="1071" name="TextBox 54"/>
              <p:cNvSpPr/>
              <p:nvPr/>
            </p:nvSpPr>
            <p:spPr>
              <a:xfrm>
                <a:off x="1209600" y="2420640"/>
                <a:ext cx="12859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3×4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55"/>
              <p:cNvSpPr/>
              <p:nvPr/>
            </p:nvSpPr>
            <p:spPr>
              <a:xfrm>
                <a:off x="2138040" y="2442600"/>
                <a:ext cx="785880" cy="57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TextBox 56"/>
            <p:cNvSpPr/>
            <p:nvPr/>
          </p:nvSpPr>
          <p:spPr>
            <a:xfrm>
              <a:off x="3209760" y="23716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四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Box 61"/>
            <p:cNvSpPr/>
            <p:nvPr/>
          </p:nvSpPr>
          <p:spPr>
            <a:xfrm>
              <a:off x="5567400" y="25146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62"/>
            <p:cNvSpPr/>
            <p:nvPr/>
          </p:nvSpPr>
          <p:spPr>
            <a:xfrm>
              <a:off x="6496200" y="2492280"/>
              <a:ext cx="7142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组合 63"/>
          <p:cNvGrpSpPr/>
          <p:nvPr/>
        </p:nvGrpSpPr>
        <p:grpSpPr>
          <a:xfrm>
            <a:off x="1209600" y="2992320"/>
            <a:ext cx="4143600" cy="642960"/>
            <a:chOff x="1209600" y="2992320"/>
            <a:chExt cx="4143600" cy="642960"/>
          </a:xfrm>
        </p:grpSpPr>
        <p:sp>
          <p:nvSpPr>
            <p:cNvPr id="1077" name="TextBox 64"/>
            <p:cNvSpPr/>
            <p:nvPr/>
          </p:nvSpPr>
          <p:spPr>
            <a:xfrm>
              <a:off x="3210120" y="29923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四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65"/>
            <p:cNvSpPr/>
            <p:nvPr/>
          </p:nvSpPr>
          <p:spPr>
            <a:xfrm>
              <a:off x="1209600" y="30636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4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66"/>
            <p:cNvSpPr/>
            <p:nvPr/>
          </p:nvSpPr>
          <p:spPr>
            <a:xfrm>
              <a:off x="2138400" y="3063600"/>
              <a:ext cx="78588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Rectangle 51"/>
          <p:cNvSpPr/>
          <p:nvPr/>
        </p:nvSpPr>
        <p:spPr>
          <a:xfrm>
            <a:off x="2208240" y="2443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6638760" y="1228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6638760" y="1873080"/>
            <a:ext cx="50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6567480" y="25146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2136600" y="17780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4352760" y="18716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得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1"/>
          <p:cNvSpPr/>
          <p:nvPr/>
        </p:nvSpPr>
        <p:spPr>
          <a:xfrm>
            <a:off x="4352760" y="23716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1"/>
          <p:cNvSpPr/>
          <p:nvPr/>
        </p:nvSpPr>
        <p:spPr>
          <a:xfrm>
            <a:off x="4352760" y="30160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82"/>
          <p:cNvGrpSpPr/>
          <p:nvPr/>
        </p:nvGrpSpPr>
        <p:grpSpPr>
          <a:xfrm>
            <a:off x="1329840" y="4219560"/>
            <a:ext cx="5736240" cy="642960"/>
            <a:chOff x="1329840" y="4219560"/>
            <a:chExt cx="5736240" cy="642960"/>
          </a:xfrm>
        </p:grpSpPr>
        <p:grpSp>
          <p:nvGrpSpPr>
            <p:cNvPr id="1089" name="组合 81"/>
            <p:cNvGrpSpPr/>
            <p:nvPr/>
          </p:nvGrpSpPr>
          <p:grpSpPr>
            <a:xfrm>
              <a:off x="1329840" y="4290480"/>
              <a:ext cx="2494080" cy="571680"/>
              <a:chOff x="1329840" y="4290480"/>
              <a:chExt cx="2494080" cy="571680"/>
            </a:xfrm>
          </p:grpSpPr>
          <p:sp>
            <p:nvSpPr>
              <p:cNvPr id="1090" name="矩形 15"/>
              <p:cNvSpPr/>
              <p:nvPr/>
            </p:nvSpPr>
            <p:spPr>
              <a:xfrm>
                <a:off x="1329840" y="4337280"/>
                <a:ext cx="1299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想一想：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×1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矩形 77"/>
              <p:cNvSpPr/>
              <p:nvPr/>
            </p:nvSpPr>
            <p:spPr>
              <a:xfrm>
                <a:off x="3038400" y="4290480"/>
                <a:ext cx="785520" cy="571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2" name="圆角矩形 78"/>
            <p:cNvSpPr/>
            <p:nvPr/>
          </p:nvSpPr>
          <p:spPr>
            <a:xfrm>
              <a:off x="4851720" y="4219560"/>
              <a:ext cx="2214360" cy="64296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一（ 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Rectangle 51"/>
          <p:cNvSpPr/>
          <p:nvPr/>
        </p:nvSpPr>
        <p:spPr>
          <a:xfrm>
            <a:off x="5931000" y="433872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得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3110040" y="4384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-50760" y="87480"/>
            <a:ext cx="2981160" cy="527040"/>
            <a:chOff x="-50760" y="87480"/>
            <a:chExt cx="2981160" cy="527040"/>
          </a:xfrm>
        </p:grpSpPr>
        <p:pic>
          <p:nvPicPr>
            <p:cNvPr id="1096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85320" y="87480"/>
              <a:ext cx="2845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-50760" y="182520"/>
              <a:ext cx="394200" cy="274680"/>
              <a:chOff x="-50760" y="182520"/>
              <a:chExt cx="394200" cy="274680"/>
            </a:xfrm>
          </p:grpSpPr>
          <p:sp>
            <p:nvSpPr>
              <p:cNvPr id="1098" name="椭圆 17"/>
              <p:cNvSpPr/>
              <p:nvPr/>
            </p:nvSpPr>
            <p:spPr>
              <a:xfrm rot="16200000">
                <a:off x="184680" y="34956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520" y="31968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19"/>
              <p:cNvSpPr/>
              <p:nvPr/>
            </p:nvSpPr>
            <p:spPr>
              <a:xfrm rot="16200000">
                <a:off x="184680" y="22428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520" y="19800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73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67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76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109440" y="69840"/>
            <a:ext cx="304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3"/>
          <p:cNvSpPr/>
          <p:nvPr/>
        </p:nvSpPr>
        <p:spPr>
          <a:xfrm>
            <a:off x="214200" y="8762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4"/>
          <p:cNvSpPr/>
          <p:nvPr/>
        </p:nvSpPr>
        <p:spPr>
          <a:xfrm>
            <a:off x="3143160" y="1376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右箭头 5"/>
          <p:cNvSpPr/>
          <p:nvPr/>
        </p:nvSpPr>
        <p:spPr>
          <a:xfrm>
            <a:off x="4071960" y="1447920"/>
            <a:ext cx="78588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6"/>
          <p:cNvSpPr/>
          <p:nvPr/>
        </p:nvSpPr>
        <p:spPr>
          <a:xfrm>
            <a:off x="4929120" y="1376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得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7"/>
          <p:cNvSpPr/>
          <p:nvPr/>
        </p:nvSpPr>
        <p:spPr>
          <a:xfrm>
            <a:off x="3143160" y="199692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三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右箭头 8"/>
          <p:cNvSpPr/>
          <p:nvPr/>
        </p:nvSpPr>
        <p:spPr>
          <a:xfrm>
            <a:off x="4071960" y="206856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9"/>
          <p:cNvSpPr/>
          <p:nvPr/>
        </p:nvSpPr>
        <p:spPr>
          <a:xfrm>
            <a:off x="4929120" y="199692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0"/>
          <p:cNvSpPr/>
          <p:nvPr/>
        </p:nvSpPr>
        <p:spPr>
          <a:xfrm>
            <a:off x="3143160" y="2689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四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右箭头 11"/>
          <p:cNvSpPr/>
          <p:nvPr/>
        </p:nvSpPr>
        <p:spPr>
          <a:xfrm>
            <a:off x="4071960" y="2760840"/>
            <a:ext cx="78588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2"/>
          <p:cNvSpPr/>
          <p:nvPr/>
        </p:nvSpPr>
        <p:spPr>
          <a:xfrm>
            <a:off x="4929120" y="2689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组合 16"/>
          <p:cNvGrpSpPr/>
          <p:nvPr/>
        </p:nvGrpSpPr>
        <p:grpSpPr>
          <a:xfrm>
            <a:off x="214200" y="3497400"/>
            <a:ext cx="8572680" cy="2500200"/>
            <a:chOff x="214200" y="3497400"/>
            <a:chExt cx="8572680" cy="2500200"/>
          </a:xfrm>
        </p:grpSpPr>
        <p:sp>
          <p:nvSpPr>
            <p:cNvPr id="1118" name="矩形 13"/>
            <p:cNvSpPr/>
            <p:nvPr/>
          </p:nvSpPr>
          <p:spPr>
            <a:xfrm>
              <a:off x="214200" y="3497400"/>
              <a:ext cx="857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吃饭时每人需要一双筷子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人需要（      ）根筷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Picture 2" descr="D:\我的文档-桌面-收藏夹\桌面\27d58PICFIt.jpg"/>
            <p:cNvPicPr/>
            <p:nvPr/>
          </p:nvPicPr>
          <p:blipFill>
            <a:blip r:embed="rId8"/>
            <a:stretch/>
          </p:blipFill>
          <p:spPr>
            <a:xfrm>
              <a:off x="2857320" y="3997440"/>
              <a:ext cx="343044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0" name="矩形 15"/>
          <p:cNvSpPr/>
          <p:nvPr/>
        </p:nvSpPr>
        <p:spPr>
          <a:xfrm>
            <a:off x="6429240" y="3497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组合 2"/>
          <p:cNvGrpSpPr/>
          <p:nvPr/>
        </p:nvGrpSpPr>
        <p:grpSpPr>
          <a:xfrm>
            <a:off x="-50760" y="87480"/>
            <a:ext cx="2981160" cy="527040"/>
            <a:chOff x="-50760" y="87480"/>
            <a:chExt cx="2981160" cy="527040"/>
          </a:xfrm>
        </p:grpSpPr>
        <p:pic>
          <p:nvPicPr>
            <p:cNvPr id="1122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85320" y="87480"/>
              <a:ext cx="2845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3" name="组合 4"/>
            <p:cNvGrpSpPr/>
            <p:nvPr/>
          </p:nvGrpSpPr>
          <p:grpSpPr>
            <a:xfrm>
              <a:off x="-50760" y="182520"/>
              <a:ext cx="394200" cy="274680"/>
              <a:chOff x="-50760" y="182520"/>
              <a:chExt cx="394200" cy="274680"/>
            </a:xfrm>
          </p:grpSpPr>
          <p:sp>
            <p:nvSpPr>
              <p:cNvPr id="1124" name="椭圆 17"/>
              <p:cNvSpPr/>
              <p:nvPr/>
            </p:nvSpPr>
            <p:spPr>
              <a:xfrm rot="16200000">
                <a:off x="184680" y="34956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520" y="31968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椭圆 19"/>
              <p:cNvSpPr/>
              <p:nvPr/>
            </p:nvSpPr>
            <p:spPr>
              <a:xfrm rot="16200000">
                <a:off x="184680" y="22428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520" y="19800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73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67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76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2" name="文本框 1"/>
          <p:cNvSpPr/>
          <p:nvPr/>
        </p:nvSpPr>
        <p:spPr>
          <a:xfrm>
            <a:off x="581040" y="7588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算一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        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=             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=            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         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"/>
          <p:cNvSpPr/>
          <p:nvPr/>
        </p:nvSpPr>
        <p:spPr>
          <a:xfrm>
            <a:off x="219240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4"/>
          <p:cNvSpPr/>
          <p:nvPr/>
        </p:nvSpPr>
        <p:spPr>
          <a:xfrm>
            <a:off x="405756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5"/>
          <p:cNvSpPr/>
          <p:nvPr/>
        </p:nvSpPr>
        <p:spPr>
          <a:xfrm>
            <a:off x="597852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6"/>
          <p:cNvSpPr/>
          <p:nvPr/>
        </p:nvSpPr>
        <p:spPr>
          <a:xfrm>
            <a:off x="2197080" y="2484360"/>
            <a:ext cx="5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7"/>
          <p:cNvSpPr/>
          <p:nvPr/>
        </p:nvSpPr>
        <p:spPr>
          <a:xfrm>
            <a:off x="4041720" y="2484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8"/>
          <p:cNvSpPr/>
          <p:nvPr/>
        </p:nvSpPr>
        <p:spPr>
          <a:xfrm>
            <a:off x="5986440" y="2476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32"/>
          <p:cNvSpPr/>
          <p:nvPr/>
        </p:nvSpPr>
        <p:spPr>
          <a:xfrm>
            <a:off x="190440" y="1436760"/>
            <a:ext cx="88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：一四得四  二四得八  三四十二  四四十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：一一得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6:2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